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E3A-8AEE-4933-A4E1-84C9F15D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91D-62A0-424E-B022-534E3069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BDD-1EE8-40D3-B887-576760C7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6AE-F7B6-45F9-BC7D-CA1E981B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3FBF-D90E-40AC-9DFD-894B8E5C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FC8F-DECD-4318-B169-4CEACF5E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0384-55E8-437F-85B3-1B3DAE58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BB89-F0EF-41FC-8757-42179CBA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257D-9438-4ADA-B4D9-A9B8E761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FB3A-666C-4A60-A8C9-E2A2D079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6A1A-D198-4745-B05E-94BA3673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D12-6926-4011-9BCE-2CF29837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8E06-6753-4A15-8BBC-B779973E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6775-5C0F-4D2E-8BCA-58C353CA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300D-B073-4EC9-A64D-1DE00358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D70D-C8B7-481A-B076-85CE3E19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0D0E-ED0B-41E3-BFA5-F01AFB8C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13B-7157-43FE-A40D-401249AF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501-6AA4-4181-8CDC-3FE29A78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C87-7C88-473F-A32D-EF574D4B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E2C-B78A-4926-9BCA-596D6F3F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F50-DE0B-4AD6-903A-E57F9F6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D0E-AE4D-411D-A4C2-F7BCF789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7D7-F71A-4681-8013-9E1FB8A0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14B3-A0AB-4CAB-AB67-C416755028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94E8-30CD-478C-8132-DEE1DF2B66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school.discoveryeducation.com/clipart/clip/cutflowr.html" TargetMode="External"/><Relationship Id="rId3" Type="http://schemas.openxmlformats.org/officeDocument/2006/relationships/hyperlink" Target="http://school.discoveryeducation.com/clipart/clip/cutflowr.html" TargetMode="External"/><Relationship Id="rId4" Type="http://schemas.openxmlformats.org/officeDocument/2006/relationships/hyperlink" Target="http://school.discoveryeducation.com/clipart/clip/cutflowr.html" TargetMode="External"/><Relationship Id="rId5" Type="http://schemas.openxmlformats.org/officeDocument/2006/relationships/hyperlink" Target="http://school.discoveryeducation.com/clipart/clip/cutflowr.html" TargetMode="External"/><Relationship Id="rId6" Type="http://schemas.openxmlformats.org/officeDocument/2006/relationships/hyperlink" Target="http://school.discoveryeducation.com/clipart/clip/cutflowr.html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logy4kid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lant Reproduc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0760" y="6172200"/>
            <a:ext cx="70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icture courtesy of </a:t>
            </a:r>
            <a:r>
              <a:rPr b="0" lang="en-AU" sz="1800" spc="-1" strike="noStrike">
                <a:solidFill>
                  <a:srgbClr val="003366"/>
                </a:solidFill>
                <a:latin typeface="Arial"/>
              </a:rPr>
              <a:t>http://plants.ifas.ufl.edu/images/rheali/rheali4.jp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617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nly way a species can survive is if more individuals of the same species are constantly being produced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roduction is a chain of events that leads to the creation of one or more new individual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all living things reproduce in the same way.  There are two types of reproduction: asexual and sexu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Asexual Rep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new organism is produced from one parent organism. A new cell is formed by splitting of an old one to make a copy or a clone.  The only variation in what they look like is due to the environment they grow up in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types of asexual reproduction are: fission, budding, spores, fragmentation followed by regenera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 mushroom can reproduce asexual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94200" cy="2073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71160" y="6491160"/>
            <a:ext cx="69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icture courtesy of </a:t>
            </a:r>
            <a:r>
              <a:rPr b="0" lang="en-AU" sz="1800" spc="-1" strike="noStrike">
                <a:solidFill>
                  <a:srgbClr val="003366"/>
                </a:solidFill>
                <a:latin typeface="Arial"/>
              </a:rPr>
              <a:t>http://plants.ifas.ufl.edu/images/lacind/lacind.jp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Sexual Rep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is when two cells each with half the DNA combine and create a living cell.  When plants hit a point in evolution, sexual reproduction occurs more ofte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se two sex cells may come from one individual organism or two parent organisms of different sex. The two sex cells are called gametes which fuse together to form a zygote, which divides to form a new organism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xual reproduction causes variation in the offspring. This variation means that organisms have more of a chance of surviving in changing condi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62720" y="380880"/>
            <a:ext cx="3147840" cy="129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360" y="6515280"/>
            <a:ext cx="84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mage courtesy of </a:t>
            </a:r>
            <a:r>
              <a:rPr b="0" lang="en-AU" sz="1600" spc="-1" strike="noStrike">
                <a:solidFill>
                  <a:srgbClr val="003366"/>
                </a:solidFill>
                <a:latin typeface="Arial"/>
              </a:rPr>
              <a:t>http://www.bbc.co.uk/schools/gcsebitesize/science/images/9_sex_cells.gi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ot of plants reproduce sexually.  The female gametes are in the ovaries of a plant in a structure called an ovule.  Male gametes are produced in the anthers and are found inside pollen grai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 pollination is when the pollen is transferred to the stigma on the same pla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oss pollination is when pollen is transferred from one flower to anoth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5880" y="152280"/>
            <a:ext cx="2533680" cy="218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"Clip art licensed from the Clip Art Gallery on DiscoverySchool.com" </a:t>
            </a:r>
            <a:r>
              <a:rPr b="0" lang="en-A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2"/>
              </a:rPr>
              <a:t>http://school.</a:t>
            </a:r>
            <a:r>
              <a:rPr b="0" lang="en-A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3"/>
              </a:rPr>
              <a:t>discoveryeducation</a:t>
            </a:r>
            <a:r>
              <a:rPr b="0" lang="en-A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4"/>
              </a:rPr>
              <a:t>.com/clipart/clip/</a:t>
            </a:r>
            <a:r>
              <a:rPr b="0" lang="en-A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5"/>
              </a:rPr>
              <a:t>cutflowr</a:t>
            </a:r>
            <a:r>
              <a:rPr b="0" lang="en-A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6"/>
              </a:rPr>
              <a:t>.html</a:t>
            </a:r>
            <a:r>
              <a:rPr b="0" lang="en-A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ac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go back to your wiki and go to the resources page where you will find the activity that you need to d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is an instructions page for the activity that you will want to print out, to help you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illips, G et al, 2004, Sci3, Pearson Education Australia, Sydne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biology4kid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ie Meszes</cp:lastModifiedBy>
  <dcterms:modified xsi:type="dcterms:W3CDTF">2009-04-30T05:23:3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